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a:t>
            </a:r>
            <a:r>
              <a:rPr b="0" lang="sr-RS" sz="2800" spc="-1" strike="noStrike">
                <a:solidFill>
                  <a:srgbClr val="000000"/>
                </a:solidFill>
                <a:latin typeface="Arial"/>
              </a:rPr>
              <a:t>е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t</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in anatomy, is a hollow muscular organ that pumps blood through the body. The heart, blood, and blood vessels make up the circulatory system, which is responsible for distributing oxygen and nutrients to the body and carrying away carbon dioxide and other waste products. The heart is the circulatory system’s power supply. It must beat ceaselessly because the body’s tissues – especially the brain and the heart itself – depend on a constant supply of oxygen and nutrients delivered by the flowing bloo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uman heart is shaped like an upside-down pear and is located slightly to the left of center inside the chest cavity. About the size of a closed fist, the heart is made primarily of muscle tissue that contracts rhythmically to propel blood to all parts of the bod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v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r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tri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ss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car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car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car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clo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akes up the circulatory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heart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function of the heart’s lower two cha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side of the heart is responsible for pumping oxygen-rich blood to the 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oxygen-rich blood return to the he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revents blood from flowing backward in the he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yocar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endothel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he heart nourish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you name three main coronary arte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words in the text that mean:</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o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l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g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he right preposition:</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blood, and blood vessels make...........the circulatory system, which is responsible.............distributing oxygen and nutrients............the body and carrying..............carbon dioxide and other waste product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mbers collect blood that pours..............from veins, blood vessels that return blood to the hear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oxygen-poor blood feeds..............two large veins which empty..........the right atrium..................the hear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passes.................the left atrium...............the left ventricle, from where it is pumped.............of the heart.............the aorta, the body’s largest arter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ner surfaces of the heart’s chambers are lined...............a thin sheet of shiny, white tissue known as the endocard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nouns corresponding to the following adjectiv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ythmic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g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n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нгина пекторис је болест срца која проузрокује умерене и јаке болове у грудима. Код стабилних случајева ангине, бол се развија након неког физичког напора, од брзог трчања до лагане шетње. Код нестабилних случајева, бол напада и када се особа одмара. Ангину изазива артериосклероза, код које таложења богата холестеролом, названа плак, проузрокују сужења коронарних артерија. Артериосклероза ограничава прилив крви у срце, па недостатак хране и кисеоника покрећу ангиозне болове. Обе врсте ангине (посебно нестабилан облик) дају индиције да оболела особа има приличне предиспозиције за срчани уда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19T17:42:46Z</dcterms:modified>
  <cp:revision>12</cp:revision>
  <dc:subject/>
  <dc:title>Slide 1</dc:title>
</cp:coreProperties>
</file>